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80720" y="380880"/>
            <a:ext cx="5257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2362320"/>
            <a:ext cx="7391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14400" y="4471560"/>
            <a:ext cx="7391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80720" y="380880"/>
            <a:ext cx="5257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236232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01960" y="236232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14400" y="447156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01960" y="447156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80720" y="380880"/>
            <a:ext cx="5257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236232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13880" y="236232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13000" y="236232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14400" y="447156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13880" y="447156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13000" y="447156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80720" y="380880"/>
            <a:ext cx="5257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14400" y="236232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80720" y="380880"/>
            <a:ext cx="5257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14400" y="236232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80720" y="380880"/>
            <a:ext cx="5257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2362320"/>
            <a:ext cx="3606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01960" y="2362320"/>
            <a:ext cx="3606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80720" y="380880"/>
            <a:ext cx="5257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980720" y="380880"/>
            <a:ext cx="5257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80720" y="380880"/>
            <a:ext cx="5257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400" y="236232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1960" y="2362320"/>
            <a:ext cx="3606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14400" y="447156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80720" y="380880"/>
            <a:ext cx="5257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2362320"/>
            <a:ext cx="3606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1960" y="236232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01960" y="447156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80720" y="380880"/>
            <a:ext cx="5257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236232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1960" y="236232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4471560"/>
            <a:ext cx="7391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980720" y="380880"/>
            <a:ext cx="5257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400" y="236232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4" marL="343080" indent="-343080">
              <a:spcBef>
                <a:spcPts val="700"/>
              </a:spcBef>
              <a:buClr>
                <a:srgbClr val="ffffff"/>
              </a:buClr>
              <a:buFont typeface="Arial Unicode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duscapes.com/earth/path3.html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mciu.org/~spjvweb/pathfinder.html" TargetMode="External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springfield.k12.pa.us/shs/quest/pathfinders.htm" TargetMode="External"/><Relationship Id="rId2" Type="http://schemas.openxmlformats.org/officeDocument/2006/relationships/hyperlink" Target="http://www.sdst.org/shs/quest/pathfinder/pacificwar/index.html" TargetMode="Externa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mciu.org/~spjvweb/edresearch.html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mciu.org/~spjvweb/pathfindermodels.html" TargetMode="External"/><Relationship Id="rId2" Type="http://schemas.openxmlformats.org/officeDocument/2006/relationships/hyperlink" Target="http://www.multcolib.org/homework/sochc.html" TargetMode="External"/><Relationship Id="rId3" Type="http://schemas.openxmlformats.org/officeDocument/2006/relationships/hyperlink" Target="http://www.ipl.org/div/pf/" TargetMode="External"/><Relationship Id="rId4" Type="http://schemas.openxmlformats.org/officeDocument/2006/relationships/hyperlink" Target="http://www.ipl.org/div/pf/entry/48443" TargetMode="External"/><Relationship Id="rId5" Type="http://schemas.openxmlformats.org/officeDocument/2006/relationships/hyperlink" Target="http://www.camden.lib.nj.us/reference/subject.htm" TargetMode="External"/><Relationship Id="rId6" Type="http://schemas.openxmlformats.org/officeDocument/2006/relationships/hyperlink" Target="http://nb.wsd.wednet.edu/lmc/pathfinders/states_pathfinder.htm" TargetMode="External"/><Relationship Id="rId7" Type="http://schemas.openxmlformats.org/officeDocument/2006/relationships/hyperlink" Target="http://nb.wsd.wednet.edu/lmc/pathfinders/lewis_clark_pathfinder.htm" TargetMode="External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00200" y="3123720"/>
            <a:ext cx="6858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for studen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by stud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as a a search strategy!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" name=""/>
          <p:cNvSpPr/>
          <p:nvPr/>
        </p:nvSpPr>
        <p:spPr>
          <a:xfrm>
            <a:off x="1816560" y="533520"/>
            <a:ext cx="4092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Lucida Calligraphy"/>
              </a:rPr>
              <a:t>Pathfinders: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3520" y="3581280"/>
            <a:ext cx="914400" cy="3859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57200" y="4419720"/>
            <a:ext cx="914400" cy="3855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80880" y="5181480"/>
            <a:ext cx="91440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05120" y="380880"/>
            <a:ext cx="5333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Unicode MS"/>
              </a:rPr>
              <a:t>On Designing Pathfinders</a:t>
            </a:r>
            <a:endParaRPr b="0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360" y="2590920"/>
            <a:ext cx="7391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4000"/>
                </a:solidFill>
                <a:uFillTx/>
                <a:latin typeface="Arial Unicode MS"/>
                <a:hlinkClick r:id="rId1"/>
              </a:rPr>
              <a:t>Designing Pathfinders for Children and Young Adult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 Unicode MS"/>
              </a:rPr>
              <a:t>(Annette Lamb)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Wenatchee’s Pathfinder for Creating Pathfinder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Vandergrift’s Pathfinder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Unicode MS"/>
              </a:rPr>
              <a:t>Pathfinders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 Unicode MS"/>
              </a:rPr>
              <a:t>by students</a:t>
            </a: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A thoughtful alternative to the traditional paper!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838080"/>
            <a:ext cx="5257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Why should students create pathfinders?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236232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Inspires thoughtful, comprehensive research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Annotation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election—only the best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Broad spectrum of resource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Evaluation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Entry point to the oral defense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5331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804000"/>
                </a:solidFill>
                <a:uFillTx/>
                <a:latin typeface="Arial Unicode MS"/>
                <a:hlinkClick r:id="rId1"/>
              </a:rPr>
              <a:t>Pathfinder Template</a:t>
            </a:r>
            <a:endParaRPr b="0" lang="en-US" sz="6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9" name=""/>
          <p:cNvSpPr/>
          <p:nvPr/>
        </p:nvSpPr>
        <p:spPr>
          <a:xfrm>
            <a:off x="1828800" y="2971800"/>
            <a:ext cx="4191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Lucida Calligraphy"/>
              </a:rPr>
              <a:t>Adapt for your own climate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28800" y="762120"/>
            <a:ext cx="6019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Unicode MS"/>
              </a:rPr>
              <a:t>Pathfinders by Students</a:t>
            </a:r>
            <a:endParaRPr b="0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236232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tudent Examples: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Quest: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4000"/>
                </a:solidFill>
                <a:uFillTx/>
                <a:latin typeface="Arial Unicode MS"/>
                <a:hlinkClick r:id="rId1"/>
              </a:rPr>
              <a:t>http://www.springfield.k12.pa.us/shs/quest/pathfinders.htm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800" spc="-1" strike="noStrike" u="sng">
                <a:solidFill>
                  <a:srgbClr val="804000"/>
                </a:solidFill>
                <a:uFillTx/>
                <a:latin typeface="Arial Unicode MS"/>
                <a:hlinkClick r:id="rId2"/>
              </a:rPr>
              <a:t>Naval Commander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In the works: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AP Novel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Artists and Movement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5867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As a searching tool!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281952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Because more libraries are creating online pathfinders, using “pathfinder” as a keyword is likely to pull up some expert advice!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99840" y="457200"/>
            <a:ext cx="5257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Sample Searches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236232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Cancer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Women’s Studie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Gun Contro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Iraq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Poetry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6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Contact:  Joyce Valenza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joyce_valenza@sdst.org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304920"/>
            <a:ext cx="7391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Unicode MS"/>
              </a:rPr>
              <a:t>Want more informatio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80880" y="2743200"/>
            <a:ext cx="914400" cy="3859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3048120" y="5105520"/>
            <a:ext cx="289548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5120" y="609480"/>
            <a:ext cx="495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Unicode MS"/>
              </a:rPr>
              <a:t>What is a pathfinder?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400" y="2437920"/>
            <a:ext cx="73915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Around for since the 70s to help library users navigate resourc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Establishes a plan of action--clears a path through the forest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Now Web-based and even more necessary!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harable 24/7 --for the good of all Web-users and information seekers!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calable—makes teachers’ and librarians’ advice vastly availabl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Models selection, evaluation, strategies, and balance!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30477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And that’s where they belong!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" name=""/>
          <p:cNvSpPr/>
          <p:nvPr/>
        </p:nvSpPr>
        <p:spPr>
          <a:xfrm>
            <a:off x="2237400" y="457200"/>
            <a:ext cx="522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Calligraphy"/>
              </a:rPr>
              <a:t>Pathfinders go online!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3352680"/>
            <a:ext cx="91440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76520" y="6094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Why should teacher-librarians</a:t>
            </a:r>
            <a:br>
              <a:rPr sz="2800"/>
            </a:br>
            <a:r>
              <a:rPr b="1" lang="en-US" sz="2800" spc="-1" strike="noStrike">
                <a:solidFill>
                  <a:srgbClr val="804000"/>
                </a:solidFill>
                <a:latin typeface="Arial Unicode MS"/>
              </a:rPr>
              <a:t>and teachers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 create Pathfinders?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400" y="236232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Model selection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caffold good research strategy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Customized for group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Promote teacher-librarians as information professional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Inspire new collaboration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Alleviate confusion for the end-user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Powerfully represent the school/district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6095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Unicode MS"/>
              </a:rPr>
              <a:t>Why create them for students?</a:t>
            </a:r>
            <a:endParaRPr b="0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3059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So they won’t miss the really good stuff! --Promote a wide and balanced range of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relevant resourc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Multiple formats / Displays range of information choic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Self-efficacy may discourage exploration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Can students discern quality?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Move students from reliance on free Web or their favorite search engin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Implicitly metacognitive—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Reflect on the proces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Reflect on searching strategi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5257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More on why . . .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281952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Eliminates frustration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Ensures (encourages?) quality product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Can be incorporated into rubric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Focuses research and maximizes student use of time to higher-level task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Fits students’ need for independence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685800"/>
            <a:ext cx="5638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Springfield’s Curricular Pathfinder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236232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Pathfinder Menu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ocial Issues Pathfinder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Pathfinder for Literary Research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Pathfinder for Physics Current Event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Primary Source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600" y="609480"/>
            <a:ext cx="6324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Teachers need pathfinders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too!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3000" y="236232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804000"/>
                </a:solidFill>
                <a:uFillTx/>
                <a:latin typeface="Arial Unicode MS"/>
                <a:hlinkClick r:id="rId1"/>
              </a:rPr>
              <a:t>Educational Research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04920" y="2514600"/>
            <a:ext cx="91440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28440" y="838080"/>
            <a:ext cx="5257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Unicode MS"/>
              </a:rPr>
              <a:t>Best Practice!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1760" y="21337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4000"/>
                </a:solidFill>
                <a:uFillTx/>
                <a:latin typeface="Arial Unicode MS"/>
                <a:hlinkClick r:id="rId1"/>
              </a:rPr>
              <a:t>Pathfinder Models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and Exampl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4000"/>
                </a:solidFill>
                <a:uFillTx/>
                <a:latin typeface="Arial Unicode MS"/>
                <a:hlinkClick r:id="rId2"/>
              </a:rPr>
              <a:t>Multnomah Homework Center - Social Issu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4000"/>
                </a:solidFill>
                <a:uFillTx/>
                <a:latin typeface="Arial Unicode MS"/>
                <a:hlinkClick r:id="rId3"/>
              </a:rPr>
              <a:t>Internet Public Library- Pathfinder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051560" indent="-210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4000"/>
                </a:solidFill>
                <a:uFillTx/>
                <a:latin typeface="Arial Unicode MS"/>
                <a:hlinkClick r:id="rId4"/>
              </a:rPr>
              <a:t>Author Pathfinder IPL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4000"/>
                </a:solidFill>
                <a:uFillTx/>
                <a:latin typeface="Arial Unicode MS"/>
                <a:hlinkClick r:id="rId5"/>
              </a:rPr>
              <a:t>Camden County Library System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4000"/>
                </a:solidFill>
                <a:uFillTx/>
                <a:latin typeface="Arial Unicode MS"/>
                <a:hlinkClick r:id="rId6"/>
              </a:rPr>
              <a:t>50 States Pathfinder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4000"/>
                </a:solidFill>
                <a:uFillTx/>
                <a:latin typeface="Arial Unicode MS"/>
                <a:hlinkClick r:id="rId7"/>
              </a:rPr>
              <a:t>Lewis and Clark Pathfinder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Black History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John Steinbeck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Indianapolis Marion County Public Library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Economic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3T19:26:52Z</dcterms:created>
  <dc:creator>WSE</dc:creator>
  <dc:description/>
  <dc:language>en-US</dc:language>
  <cp:lastModifiedBy>Student</cp:lastModifiedBy>
  <dcterms:modified xsi:type="dcterms:W3CDTF">2007-03-02T13:58:57Z</dcterms:modified>
  <cp:revision>55</cp:revision>
  <dc:subject/>
  <dc:title>PowerPoint Presentation</dc:title>
</cp:coreProperties>
</file>